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499-16F3-42EA-8BE8-A5E65F9E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A3D-5C01-44AF-8AE4-3B8664D0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B68-9EBD-4FAB-8439-AC0C39FA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147-D037-4DB1-88A9-406A5C10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FD30-67B1-44AC-A85F-4178AC89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072C-A8BF-40AD-8546-692C8337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808-431F-40B3-991C-E706E605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1929-BEFB-4334-B398-0B8E8E2F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F11D-C87A-4F02-A5C9-A641AECD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2DB-6F56-495F-84B9-278948DF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7DCC-AA58-4D03-8601-A81CC50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AAD-DFAC-4CC6-8E12-CFF1BA0E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4383-1F1B-4021-BB1D-D6E7D1B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09BF-DEC9-4B2C-8FCC-B5BB9A4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4B6F-F085-4A61-8703-CF3EDBB8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4960-9F25-4663-A327-7C4BE83B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94DF-363B-428C-946D-3920678D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DD0-740D-49CF-9E34-768132D0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162-45EB-4099-982F-E25145F9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07B-98E2-41E5-9C05-939D981B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8D0-DB1B-491B-B271-AFDD01C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F88-171F-4886-BC0F-4DBC5C8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8B3-FF1E-466C-9D6D-C0CCC10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424-748C-435B-B0BD-95E88FC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AA4F-0A1C-4EED-850F-661B16005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EC02-9B45-42FD-B816-0FC9889DA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Lf2RbxmzE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SSESSMENT SAMP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LINE VA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A VANIA C. LUCAGB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D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MPLE: coll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mple: Advocacy Vide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GOLf2Rbxm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38280" y="2590920"/>
            <a:ext cx="512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3:44:46Z</dcterms:created>
  <dc:creator>nave1386</dc:creator>
  <dc:description/>
  <dc:language>en-US</dc:language>
  <cp:lastModifiedBy>nave1386</cp:lastModifiedBy>
  <dcterms:modified xsi:type="dcterms:W3CDTF">2010-09-20T23:48:03Z</dcterms:modified>
  <cp:revision>1</cp:revision>
  <dc:subject/>
  <dc:title>ASSESSMENT SAMPLES</dc:title>
</cp:coreProperties>
</file>